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D5F-D088-4831-AB75-2F0404AB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130-E1E9-4DFC-B46C-1AB3D668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0B05-7242-40AE-B56A-181F61AA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3A45-D46C-4117-AB6C-E2E7EF36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5F7-0F3F-49B3-B070-3BE3BD84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F9BB-F290-4D6F-BAFC-0D8A56BD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9D2-BB69-4C3C-B451-FA3BCEFE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2B4-40B2-4BDA-B492-542C1110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415-B924-40A8-9679-533482BB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8C1-C8C5-4C49-8059-09B665A4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BC0-3B01-45F9-B6DC-4A149F89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B78-D17E-4263-BA53-6810E003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040B-87C8-4802-81AD-5A8B92C07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3360"/>
            <a:ext cx="4535640" cy="6021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yu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c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jud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rieg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pelig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dep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do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 poco probable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reconocen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¿Cómo puedes pensar que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 acepto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16360" y="333360"/>
            <a:ext cx="3961080" cy="602172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h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ubt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n’t accept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p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’s not likely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njec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an you think that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d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y don’t recognise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557360"/>
            <a:ext cx="84978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match key items of voca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read about opinions to do with drug u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give your own opinions on drug u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revise using the subjunctive to give negative opinions of doub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do these phrases have in comm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557360"/>
            <a:ext cx="84978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o creo que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Dudo que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o pienso que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o acepto que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¿cómo puedes pensar que…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Es imposible que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Es poco probable que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o reconocen que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838080"/>
            <a:ext cx="64008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ESENT SUBJUN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AR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·        Take the first person of the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·        Remove –o and add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838080"/>
            <a:ext cx="64008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RESENT SUBJUN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ER / -IR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ke the first person of the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move –o and add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á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43000" y="685800"/>
            <a:ext cx="67816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RESENT SUBJUN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RREGU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b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é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ccents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person si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a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é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ccents all but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person plu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b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b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43000" y="685800"/>
            <a:ext cx="67816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RESENT SUBJUN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DICAL CHANGING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 Change happens as in the present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  VOL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ue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uelv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ue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lv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lvá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uelv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685800"/>
            <a:ext cx="67816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RESENT SUBJUN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DICAL CHANGING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ND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ERSON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…….ir verbs   O      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  DORMI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e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e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e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m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má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er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685800"/>
            <a:ext cx="67816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RESENT SUBJUN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DICAL CHANGING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……ir verbs    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  SENTI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en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n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ntá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en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9:51:37Z</dcterms:created>
  <dc:creator>Owner1</dc:creator>
  <dc:description/>
  <dc:language>en-US</dc:language>
  <cp:lastModifiedBy>Owner1</cp:lastModifiedBy>
  <dcterms:modified xsi:type="dcterms:W3CDTF">2008-11-07T09:51:59Z</dcterms:modified>
  <cp:revision>1</cp:revision>
  <dc:subject/>
  <dc:title>Slide 1</dc:title>
</cp:coreProperties>
</file>